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7773987-AE17-4FAC-89DC-EAF386DD466F}"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AE2AFBE-0A3E-4DEC-9198-665D894B09F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6DB5E89-5AFF-432D-BE7D-829B2C7E1D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62DDDE-7390-41C6-AB3C-270546130C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9A8A578-899F-450C-9482-0D2C9964F6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2977213-DB22-41FE-BC24-687A94C6A4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841E3B7-11F7-4823-8531-D21AB99C7E6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F56BD4D-D0C6-4A51-A680-C6DB8DFAB4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E9060E7-1D15-40F7-819E-EE580DE867B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BCB2F82-D9F5-46B9-A475-B156E90BC6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93FFFFB-58D8-466F-B833-4DD47B9A7C3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DB8B0F1-CEB9-4605-976E-710CF3F742B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5AAFDE0-A346-41DB-BB02-4DC5F32352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E753D4-E0A4-4C37-BF30-192CB3F570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2A3CC4B-E48B-47A7-997D-9BA7FFD068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BF336EF-DA8E-4413-B9A6-F62FA10123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B1E45D0-5EED-4FB8-AE70-AF523548EB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B200956-9C97-4B35-828A-B3FC2B9C9A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A99C0C1-820C-404E-88FD-16C28370AF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1EE104-5D26-4992-9B72-99FD43EDF9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CE0D2C-96D3-4507-B71F-275FD2CAC6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7595CC-F974-4EAC-BA54-3E190A753F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6CF6D5-E582-4252-917D-EA3E0A2D08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4EF756-A9CE-480F-BC2B-C5B01EBC71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A6F83C-2743-4863-9ADE-8B1B4564FB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D94B2F-4331-417C-80E5-A1D5B4F6BA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9D931-AF1E-435C-AA86-525248129403}"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448AC-8692-4B5C-96A0-5DFF48CD767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9975B6-C6C6-40F7-A505-B572F8EC63D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1F7F877-E1F7-46A5-A659-1715803E957B}"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BFC35B1-93BF-4470-AA3E-20CE4065FF05}"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64A0C5-962A-4E31-B99B-FACCAD1B49C1}"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402CC45-D1F8-4379-96B4-1D64D9835280}"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A90AA0C-BEFE-44F8-8440-AAE319AB7547}"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72126B7-3587-48A7-9F05-4508CDA85735}"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03317A-5B83-4348-A10E-9A34AB3A6869}"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FAC1DB-E8F2-426B-8282-D79F0DF85AEA}"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C1D085-A75A-46A3-979F-A303DB27971E}"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A660E76-ED4E-4786-8136-B1B91EDA3CD4}"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9BC56F-55C7-4D7D-85A1-D68C7482C3DB}"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5D0FE86-DB26-497A-99B3-BB15B87C5966}"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9A0C5E-0943-48C7-BFE6-F189827825E6}"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97C29E7-CBEA-4F4D-B6C9-CA30B1008AFA}"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71437E7-3813-462E-8F5F-E582F9648DE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1B62F5-E100-4A78-99C5-70525A77AD5E}"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8DC2B48-FCF6-4F3D-830C-B8656A1EF7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8716AA71-D662-4ECA-AC05-D77EE7663178}"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748EB6-6E3D-45BC-836C-04356FC2090C}"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597DF64-AD72-4126-8407-125E7AF09B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A6C58DE-E0D8-4C44-A702-341C1FA6C7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A56E861-330B-4163-828C-D98548242FB8}"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8F99FF4-E86A-40E0-A3CF-F37438E81A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F29515-0763-4EE8-AD7B-2F07E024F1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D05D0F-DD2C-4605-B518-3DE3E12EB0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1488CB-15EC-4BB0-B11A-4E5F192F7527}"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7149D3-C820-457E-8113-C1A9EC11DF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EF33072-0667-4A6F-BE4F-4AF12CE058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2A8109-AF37-416C-B622-8355CA4272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8053A7-DECD-4D86-AFC7-21B44FA65D65}"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11F0A7E-AFD8-419D-9687-F2ACEA7C73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39A0772-FDBB-4227-A9F9-2FB8B6E8C5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319DC49-907E-4287-B9EB-255A70F40D4B}"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6C827AF-D5D1-47F8-987D-A23C96CD13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EA71936-10F6-4819-80CC-54B12B1F07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0204AE-42DD-4A7D-AE24-8EEF45E7825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0AC654C-5749-4CB5-8A43-1E5E6C27EF4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7A9BDD4-F0B6-40F9-B722-DCF910E1EF4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E118F3-7692-42E0-A19C-511FC22E4D2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1719B41-E2F9-41E6-AD3C-F9AB53BD7DD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A6A383-A31A-48EE-BC82-3B26EC2D8A5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A3D731-C785-4A7D-9C00-71D5EBC432B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2D01DC-BA84-47D0-93AE-35BA72EA65A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CF32984-31AB-4228-9228-C612CFB2838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B0294D-B665-4157-9BE9-9F92095B8B3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05D63C4-78C9-4B4C-9E36-276AE0B6BDB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71DE40-3487-4BF4-A797-48B8C518E3F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6BB4A42-93EE-49AB-B4FA-DD159E84E53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567853-EA4C-4A8F-BFAD-B3B0D0F1F51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3D5C3E-2077-4D25-9CFB-857ABB1879C7}"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D3615E-D1DD-4328-9F71-5317E889F92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7E6C2D-F1D1-4A74-9846-6BE31CB7770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ED2B2F-2F79-4426-AFBB-A8B04385CF9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CAD9A0-F238-4055-8598-5B64F4FA5E4F}"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C5F076-81F2-4A24-BC59-D1D2AF669C4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A754503-09D4-4296-96AC-AAAAC76EE68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A431110-6F0C-4AD6-8004-7529FFAF3BF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CA1FACC-AAF5-4781-A161-27F7EC1AC18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A42A46-3C4F-4F0B-BBDD-7551C719FB7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E44029A-8559-4501-AD9A-BE41126F830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4FA4D96-8658-4B11-87F1-CB0469213A8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B86A239-027A-4EE9-A3B6-E4296FE91A64}"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8DA94D-7FB3-436C-AE51-1B22E391009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6009AC6-1EF7-44A7-B478-CC96435ACC5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DED893-09D5-458D-BBE3-D97EFD7D142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AB002A-6FB3-4608-ABE2-67FC4B114425}"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9CC4D80-461C-4FEA-89A2-1675AE7C20A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AFAF77-E75F-45E4-B5F5-32757DAE928D}"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888D47A-1528-4FAE-84BE-66886DD6741B}"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436E7C-66E7-4AFA-842C-6E78A33797F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403CD3-2306-4E5D-84D5-A1D08DF30C6C}"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6E1248-2BBB-4C31-AC7F-4143E005CDEC}"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433BD0-08AB-4D0B-A073-CC47F31E65E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52F682F-0613-4ED1-97AD-2B8D3C2F3DF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6870FD-8EC4-45FE-84EE-4C666A96A7F4}"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1A72395-EAC2-4B51-B5A4-CC5410C100B3}"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785BB9-1A5F-4E96-B8B6-1210002B7F6C}"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1D6DE41-938A-43BA-AAF8-A6A4C1F598F1}"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BEC2F2-5851-4532-90DA-FEFB6235C713}"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5DECA2A-C1CF-468E-A84C-1E86C60940AA}"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D1D884C-257A-4C41-AD98-C0B957C8A92E}"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B92B4D-0320-4527-94F8-4126A8A82AC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6E04BCB-BB80-4379-9AAB-B5D038AB3D5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A7B27D0-D70B-44C3-BCB8-AAFEEB95621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0D2276E-6031-4F92-8336-866399ED981B}"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B827AEE-F7FB-4ACD-B264-8C0CE741AF5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7921A4-6CC7-4F76-BA43-0251D5697176}"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7751AC-4123-4942-9B71-510D7F4495BB}"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5B6F644-2E8B-479D-96F8-3DB3990847F7}"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BE36D81-1906-48C6-AEC0-E6ECD175E866}"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4301257-F31C-4D35-BF42-F40D418F72E2}"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E3A77AC-A182-4C44-86A6-60E92438B5EE}"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BE5458-3DE4-48F1-88CE-817CB7CFC063}"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2812D86C-1ACA-4D70-9B95-AA0F2EBF8F98}"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7603B9-C2E9-439B-B68C-3AAA20A8EF4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BC7A146-7694-4D8A-89A7-D420A1FE8FA6}"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D951E7-DE61-4C3F-87C9-404E41861FAE}"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716A616-3C04-4585-A76A-B9F41AACF958}"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95BD292-A1DE-4309-BFED-2CA623057683}"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4CC72ED-6261-4ADB-A3C9-FEDF25E42617}"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3BEE44-D865-4C34-940D-0A11FC340153}"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F6624AB-DE8D-49C3-8E2C-7A2414BE572E}"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B50250F-7F0E-40EE-B8B7-F520F72A86CE}"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33B5FD-AB6A-4206-AC75-96E2C1E0C4E6}"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C42DB93-0ADB-4CBF-98DA-94D5D919456A}"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7F0ACB65-3334-421B-9195-62FCD335B5C9}"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C19F6B4-5791-41FC-A969-E3481FA23FF0}"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759183-B4EE-4887-8EF7-1916AA49865B}"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E5B37C5-E880-4CBD-A31F-B2B543DB229B}"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7752C5B-320F-47C6-9E21-2170578C3600}"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8208ED9-AB77-4F4E-84EF-70613C567B16}"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