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53969"/>
        <c:axId val="68976344"/>
      </c:barChart>
      <c:catAx>
        <c:axId val="34553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76344"/>
        <c:crosses val="autoZero"/>
        <c:auto val="1"/>
        <c:lblAlgn val="ctr"/>
        <c:lblOffset val="100"/>
        <c:noMultiLvlLbl val="0"/>
      </c:catAx>
      <c:valAx>
        <c:axId val="68976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53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5A7-C6CC-4C92-A4C3-1CF3C152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23B-0162-4575-AC49-A1E6C261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F0B-BED9-462C-BF0D-74DDC3A6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157-58C1-426B-B3AB-2A151CE2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853-901F-4FF1-8FA0-61250B6E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4FC-2594-4EC4-B921-EA506591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C68-0E0E-479E-8837-C1140146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3A2-8C31-40EB-B10C-EDC01701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7BF-094E-474F-BFB1-C21EC586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482-B838-446A-BC43-F946865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547-7347-4447-A641-25BABF71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9D0-025F-4140-819C-E9C9124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4D956-0191-4FAC-906C-A6DF9579F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